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9F0-D397-427A-8E61-07BF66F0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CF6-B697-4393-940A-911AA0C2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C3D-CC5D-4FDC-B158-E2D0427E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619-29BA-463E-B6F3-49E4AD3E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B6B-896F-4A07-B424-260C39C1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6E7-8AA7-411F-A70C-DDC08B24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FD9-74FA-4F78-A8D6-C04C9FC2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14A-88A9-497B-BDAB-D75A2B69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5DD-15D0-4114-A2D7-4B5EFBC0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78F-AA16-47A1-8EA7-FF642EED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518-570D-4790-911E-29277C47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223-3C1A-4C92-8AEA-99B80A4E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763C-DA08-4AA1-A25D-4E87696C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3184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Me llamo ___________  Clase 702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La fecha es el 25 de febrer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1599840"/>
            <a:ext cx="8762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4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n ustedes al ten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con la forma correcta del verbo 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 una mascota. _____ un g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uestra escuela ______ un equipo de beisbol bu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 tú una familia grande o peque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muchos pri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36440"/>
            <a:ext cx="8610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cognize SPANISH ver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0880" y="1690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l Spanish verbs end in either –AR, -ER or -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o “conjugate” a verb means to change it in order to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80880" y="4052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. Find the INFINITIVE verb ending.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(-ar, -er, -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0880" y="47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2. Remove the INFINITIVE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80880" y="5530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3. Replace with the appropriate NEW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ndings for verbs in the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Ella,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Ellas,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901320" y="19051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12040" y="24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888000" y="2986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570120" y="3519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73572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-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778920" y="4510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631560" y="1828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555240" y="2376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643800" y="2909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48928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7241400" y="35193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72004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7576560" y="40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707880" y="4586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4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anzar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eter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u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Line 31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4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5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3737160" y="19051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3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4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3660480" y="26049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3762000" y="33670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7"/>
          <p:cNvSpPr/>
          <p:nvPr/>
        </p:nvSpPr>
        <p:spPr>
          <a:xfrm>
            <a:off x="3412080" y="41148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8"/>
          <p:cNvSpPr/>
          <p:nvPr/>
        </p:nvSpPr>
        <p:spPr>
          <a:xfrm>
            <a:off x="3694320" y="487692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0" i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9"/>
          <p:cNvSpPr/>
          <p:nvPr/>
        </p:nvSpPr>
        <p:spPr>
          <a:xfrm>
            <a:off x="3660840" y="56530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0"/>
          <p:cNvSpPr/>
          <p:nvPr/>
        </p:nvSpPr>
        <p:spPr>
          <a:xfrm>
            <a:off x="57686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1"/>
          <p:cNvSpPr/>
          <p:nvPr/>
        </p:nvSpPr>
        <p:spPr>
          <a:xfrm>
            <a:off x="5717880" y="2590920"/>
            <a:ext cx="11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2"/>
          <p:cNvSpPr/>
          <p:nvPr/>
        </p:nvSpPr>
        <p:spPr>
          <a:xfrm>
            <a:off x="5787360" y="33670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3"/>
          <p:cNvSpPr/>
          <p:nvPr/>
        </p:nvSpPr>
        <p:spPr>
          <a:xfrm>
            <a:off x="5490000" y="411480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4"/>
          <p:cNvSpPr/>
          <p:nvPr/>
        </p:nvSpPr>
        <p:spPr>
          <a:xfrm>
            <a:off x="5702760" y="4890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5"/>
          <p:cNvSpPr/>
          <p:nvPr/>
        </p:nvSpPr>
        <p:spPr>
          <a:xfrm>
            <a:off x="5724720" y="56530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6"/>
          <p:cNvSpPr/>
          <p:nvPr/>
        </p:nvSpPr>
        <p:spPr>
          <a:xfrm>
            <a:off x="7610760" y="19191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7"/>
          <p:cNvSpPr/>
          <p:nvPr/>
        </p:nvSpPr>
        <p:spPr>
          <a:xfrm>
            <a:off x="7507440" y="260496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8"/>
          <p:cNvSpPr/>
          <p:nvPr/>
        </p:nvSpPr>
        <p:spPr>
          <a:xfrm>
            <a:off x="7547040" y="336708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9"/>
          <p:cNvSpPr/>
          <p:nvPr/>
        </p:nvSpPr>
        <p:spPr>
          <a:xfrm>
            <a:off x="7302960" y="412920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0"/>
          <p:cNvSpPr/>
          <p:nvPr/>
        </p:nvSpPr>
        <p:spPr>
          <a:xfrm>
            <a:off x="7577640" y="4967280"/>
            <a:ext cx="12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1"/>
          <p:cNvSpPr/>
          <p:nvPr/>
        </p:nvSpPr>
        <p:spPr>
          <a:xfrm>
            <a:off x="7471080" y="56530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809880" y="1905120"/>
            <a:ext cx="3812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735720" y="3124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735720" y="397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735360" y="4433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735720" y="481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5720" y="52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735360" y="5715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735720" y="6110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bs in Spanish are called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tem-cha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XCEP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noun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vosotros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se verbs are also known a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OOT 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when conjugated in the following form, only the verb INSIDE the book tak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320" y="4282920"/>
          <a:ext cx="8991360" cy="2498760"/>
        </p:xfrm>
        <a:graphic>
          <a:graphicData uri="http://schemas.openxmlformats.org/drawingml/2006/table">
            <a:tbl>
              <a:tblPr/>
              <a:tblGrid>
                <a:gridCol w="2371680"/>
                <a:gridCol w="2206440"/>
                <a:gridCol w="2206800"/>
                <a:gridCol w="22064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r 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 begi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2"/>
          <p:cNvSpPr/>
          <p:nvPr/>
        </p:nvSpPr>
        <p:spPr>
          <a:xfrm>
            <a:off x="2438280" y="4815000"/>
            <a:ext cx="22100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2438280" y="5348160"/>
            <a:ext cx="22100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438280" y="5867280"/>
            <a:ext cx="221004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6858000" y="48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6858000" y="533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0" i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2"/>
          <p:cNvSpPr/>
          <p:nvPr/>
        </p:nvSpPr>
        <p:spPr>
          <a:xfrm>
            <a:off x="6858000" y="5867280"/>
            <a:ext cx="212724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following verbs; remember the “stem-changing” rul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2 original sentences with each verb, make sure you use different pronouns or subjects. Get creative!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6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cp:lastPrinted>2016-02-24T19:46:02Z</cp:lastPrinted>
  <dcterms:modified xsi:type="dcterms:W3CDTF">2016-02-25T19:33:15Z</dcterms:modified>
  <cp:revision>46</cp:revision>
  <dc:subject/>
  <dc:title>Me llamo ___________  Clase 7 IM La fecha es el 18 de noviembre del 2010</dc:title>
</cp:coreProperties>
</file>